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B48A-BAB5-4D3A-95C3-B701FD071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8171-E51B-44B9-840D-A1C7B1667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A9BD-B2B0-4B91-B828-B73B2E7E1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68C8-D314-4CD6-8364-2D8497A1D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5246-C145-4589-BC32-B0B0EFC1D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FE90-ABB0-4C27-9B2A-86241015A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004D-BED6-45AE-AB18-169E9ABA4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9C21-AADD-4551-ABA6-D7D572BEF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5FC5-B7A9-40AE-94B1-8D4259C7E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6FC6-7501-434B-BDF5-18E2F1BD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44D-E53E-4CE7-BBDE-2FEDEADD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71F-5924-4234-948A-72A73EA4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6DBF-51C5-4CE7-856C-47CB6D14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FD62-7F5F-4B82-A581-33658389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5462-45AF-4BED-8657-6DAD1960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DC23-A070-4693-9840-B888DE70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0BB6-32DD-4871-B298-29BC2DD1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9622-04EF-45F0-9D8D-A37EAB53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9375-21E4-4176-A3AF-C0BB75DD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70BC-D2F7-485F-9CAF-CD17A07D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3021-ADFF-429A-85B2-A6677D12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B28F-7DB0-4FAA-A511-4416E662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3297-A44B-4431-B034-B7F5EF86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9DFC-F236-464F-8C95-FB635B94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8DCC-3C8F-4871-9347-ED0449ED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F841-6197-412A-87D8-9894556F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6110D-55D2-4482-867F-22335A4C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CF002-C9DB-4AFA-AC8E-65A2F5E3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ACF56-12DD-4559-8442-10915A4B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0FFF3-DDED-4CEA-8B67-CFB6B193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1CDB6-BCDD-496A-91F6-25AC1C18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82E-EF52-4428-8E43-F8175E01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04B86-0D68-4724-8E92-E75C14A0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A1BDC-0914-42EF-8506-AF2FC92B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18D11-203A-4FCD-9E03-322F7B8F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E94B5-11BF-45AB-99D9-C10B3214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B8322-0D2F-4BF6-A38D-F706C7E7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99161-C063-4185-A079-3DE4DB94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AD6C4-2C9F-45A5-A159-9EFC417E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3BFBF-1887-4F70-8CD6-DBEC8CAE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5B017-0711-4AEE-A842-2F9C5336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F1059-2425-4424-9EF5-7D3E57F7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49EC-AD54-4A9E-9347-C8035B70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50009-80A4-4794-BAB2-B02E2C54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47891-035B-404B-8AA9-A37268BE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9C0AD-BE02-4C53-BE3A-28DC32B6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9A914-5305-41F4-8943-041C80FF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69CAD-C1A9-424C-9E77-32F0FB0C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8D978-557C-41B8-89E1-DE928A69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AD9EB-4B61-4204-8BA8-E8BE2FC9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7EB2E-65AD-4EFC-9BF8-A3A43CAB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29934-E237-4AC3-8FB3-3D10B53A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B1A41-3825-47AA-9977-23ACE0D9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09CC-5B68-482F-8D80-0ACD66A6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23697-BE9A-4E3D-B578-595269E1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B72FC-7A2F-4855-803C-9EBF4BB1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3D9CD-76AA-4A26-B2C7-9053CB01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8BEC8-9187-47A3-AC34-4A9E0F71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9C883-C04E-4F7A-B6AF-D458E952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DA4DD-942F-4B68-A91B-F6DAB9ED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28C62-DFB6-40A3-A8FE-66E56787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CE62D-0DA8-4216-86CC-84CDC46C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F5562-B756-41F2-8A16-B2F73DC0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7393F-408E-454D-849C-9A643E32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7177-3730-4DB9-926B-85DC7AE5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35D05-BD09-455A-A786-606C5236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11E3-31DA-467E-8902-56A4F648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EC9-377C-4828-AA77-BD497250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8E88-23DA-4CA2-804B-5D007153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6F17-9FB7-40E1-9311-63AD5AE2076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4821-C2E1-460E-AE9A-D74C1D47D5E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4AE0-25AD-4384-8F68-B5E3BF705CD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C0D7-9315-4A8C-941F-B654137FD29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2881-9EFB-4740-ABF7-0262C9A1BAD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AC_ENG_3Colour"/>
          <p:cNvPicPr/>
          <p:nvPr/>
        </p:nvPicPr>
        <p:blipFill>
          <a:blip r:embed="rId1"/>
          <a:stretch/>
        </p:blipFill>
        <p:spPr>
          <a:xfrm>
            <a:off x="2971800" y="2935440"/>
            <a:ext cx="3048120" cy="110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4" name="Text Box 14"/>
          <p:cNvSpPr/>
          <p:nvPr/>
        </p:nvSpPr>
        <p:spPr>
          <a:xfrm>
            <a:off x="2362320" y="49528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OCASI Training for Employment Support Services     05. 1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2"/>
          <p:cNvSpPr/>
          <p:nvPr/>
        </p:nvSpPr>
        <p:spPr>
          <a:xfrm>
            <a:off x="3124080" y="60958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ded by the Government of Ontar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7" name="Text Box 8"/>
          <p:cNvSpPr/>
          <p:nvPr/>
        </p:nvSpPr>
        <p:spPr>
          <a:xfrm>
            <a:off x="990720" y="914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Backgr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1371600" y="1752480"/>
            <a:ext cx="701028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The Access Centre for Regulated Employment is the first provincially-fun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access centre of its kind outside of the Greater Toronto Are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The Access Centre for Regulated Employment provides accurate licen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information and application assistance to newcomers seeking careers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Ontario’s regulated profe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The project is funded by the Ministry of Citizenship and Immigration and is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partnership of 3 local not-for-profit organizations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WIL Employment Connections (managing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London Cross Cultural Learner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L' Association Canadienne-Francaise de l' Ontario (ACFO), London-Sar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8"/>
          <p:cNvSpPr/>
          <p:nvPr/>
        </p:nvSpPr>
        <p:spPr>
          <a:xfrm>
            <a:off x="99072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Regulated Prof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371600" y="1828800"/>
            <a:ext cx="34290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Archit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Audiologist and Speech-Langu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ath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ertified Engineering Technician an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Techn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ertified General Accoun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ertified Management Accoun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hartered Accoun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hiropodist and Podiatr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hiropr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Dental Hygie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Dental Techn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Dent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Dentur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Dietit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Early Childhood Educ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For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Land Survey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Lawyer (including Paraleg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Massage Therap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4952880" y="1828800"/>
            <a:ext cx="3886200" cy="46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Medical Laborat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Techn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Medical Radiation Techn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Midw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N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Occupational Therap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Optic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Optometr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harmac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hysic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hysiotherap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rofessional Engine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rofessional Geoscient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sych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Respiratory Therap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Social Worker and Soci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Service Wor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Tea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Veterinar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54" name="Text Box 11"/>
          <p:cNvSpPr/>
          <p:nvPr/>
        </p:nvSpPr>
        <p:spPr>
          <a:xfrm>
            <a:off x="1371600" y="1066680"/>
            <a:ext cx="701028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3122f"/>
                </a:solidFill>
                <a:latin typeface="Arial"/>
              </a:rPr>
              <a:t>Cli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Access Centre partners with ITI's in a business relationship with the goal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licensure or employment in a regulated prof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Provide current and credible information and application assistance in a context of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each individuals education, career history and personal go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c00000"/>
                </a:solidFill>
                <a:latin typeface="Arial"/>
              </a:rPr>
              <a:t>Community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595959"/>
                </a:solidFill>
                <a:latin typeface="Arial"/>
              </a:rPr>
              <a:t>Access Centre provides an adjunct service for employment counsellors, settlement and library workers in the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3122f"/>
                </a:solidFill>
                <a:latin typeface="Arial"/>
              </a:rPr>
              <a:t>Employ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Access Centre is one of the ‘tools’ in place for companies to effective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connect with immigrant t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56" name="Text Box 10"/>
          <p:cNvSpPr/>
          <p:nvPr/>
        </p:nvSpPr>
        <p:spPr>
          <a:xfrm>
            <a:off x="990720" y="1066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-76320" y="1143000"/>
            <a:ext cx="106704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1295280" y="1600200"/>
            <a:ext cx="70106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Help Internationally trained immigrants understand and navigate the comple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licensure process in On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Help client’s understand international equivalencies including source verification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make informed  career and licensure related decisions (WES, ICAS,CES et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Facilitate document procurement  from educational institutions, ministrie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education, library archives, previous employ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Facilitate legal  requirements in the document process (notarization, attestation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Ensure ITI’s submit favourable applications to their regulatory bo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Assist with post application requirements for those interested in achieving fu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licensure in their fie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666666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60" name="Text Box 8"/>
          <p:cNvSpPr/>
          <p:nvPr/>
        </p:nvSpPr>
        <p:spPr>
          <a:xfrm>
            <a:off x="990720" y="1066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Barriers to Licen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371600" y="2133720"/>
            <a:ext cx="7010280" cy="39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Some of the more common barriers faced by Internationally Trained Immigrants  (ITI’s) in regulated professions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redential recogni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Work experience recog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Recency of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anadian experience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Language and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osts associated with licensure ( Application fees, translations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ost application examin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63" name="Text Box 10"/>
          <p:cNvSpPr/>
          <p:nvPr/>
        </p:nvSpPr>
        <p:spPr>
          <a:xfrm>
            <a:off x="990720" y="1066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Good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-76320" y="1143000"/>
            <a:ext cx="106704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1295280" y="1600200"/>
            <a:ext cx="7010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The Office of the Fairness Commissioner repor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The professions with the highest proportion of internationally trained members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Pharmacy 3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Audiology and Speech Language Pathology  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Chiropractic  2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Dental Technology  2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Physicians and Surgeons  2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Dentals Surgeons  2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Engineering  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8"/>
          <p:cNvSpPr/>
          <p:nvPr/>
        </p:nvSpPr>
        <p:spPr>
          <a:xfrm>
            <a:off x="990720" y="1066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990720" y="2286000"/>
            <a:ext cx="6019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Access Centre for Regulated Employ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171 Queens Avenue, Suite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London, ON  N6A 5J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info@accesscentre.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www.accesscentre.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el: 519.858.23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Fax: 519.858.54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1" descr="171 Queens Avenue"/>
          <p:cNvPicPr/>
          <p:nvPr/>
        </p:nvPicPr>
        <p:blipFill>
          <a:blip r:embed="rId1"/>
          <a:stretch/>
        </p:blipFill>
        <p:spPr>
          <a:xfrm>
            <a:off x="5715000" y="3962520"/>
            <a:ext cx="1971720" cy="1809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9" name="Picture 12" descr="AC_ENG_3Colour"/>
          <p:cNvPicPr/>
          <p:nvPr/>
        </p:nvPicPr>
        <p:blipFill>
          <a:blip r:embed="rId2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sse Morrice</dc:creator>
  <dc:description/>
  <dc:language>en-US</dc:language>
  <cp:lastModifiedBy>aholmes</cp:lastModifiedBy>
  <dcterms:modified xsi:type="dcterms:W3CDTF">2011-09-06T15:46:43Z</dcterms:modified>
  <cp:revision>2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